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3365fb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3365fb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nstructing Internet Applications With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s Sea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RO Enterprises, In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seaver@macroen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TQR HubApp Mai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38360" y="1866960"/>
            <a:ext cx="5857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TQR Quer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14680" y="1990800"/>
            <a:ext cx="5848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TQR HTML M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0640" y="1990800"/>
            <a:ext cx="5848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Why Build Internet / Web Applic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2133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 Current Business Information “On Dem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liminate Platform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ploy and Upgrade Systems Insta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verage Users’ Skills to Enhance and Extend Systems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thout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rchitecture of 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ue “client-server”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 vs. Intranet Network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ge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ic vs. Dynamic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esigning Interaction into 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on Gateway Interface (CG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age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ic” vs. Windows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-Driven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v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elphi: Scaffolding for Websit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amless access to data, the raw material of an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 component architecture provides tools, framework for effici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erior performance yields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lated Web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REF Tools Corp. (WebHub) http://www.href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’Reilly &amp; Associates (WebSite) http://www.or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RO Enterprises, Inc. http://www.macroen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MACRO’s Job-List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57320" y="29624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67000" y="298116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48440" y="3114720"/>
            <a:ext cx="31428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162840" y="4029120"/>
            <a:ext cx="31428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734240" y="42289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2971800"/>
            <a:ext cx="190512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3124080"/>
            <a:ext cx="1676520" cy="15264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84360" y="2436840"/>
            <a:ext cx="1284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TP (U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46680" y="2589120"/>
            <a:ext cx="1284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gi-win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RL Par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1360" y="3328920"/>
            <a:ext cx="958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79640" y="3274920"/>
            <a:ext cx="884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784760" y="3503520"/>
            <a:ext cx="917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H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276720"/>
            <a:ext cx="685800" cy="76176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75480" y="3274920"/>
            <a:ext cx="601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851440" y="4417920"/>
            <a:ext cx="884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Q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ub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267080"/>
            <a:ext cx="1218960" cy="1526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89880" y="39607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4280" y="4722840"/>
            <a:ext cx="928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733920" y="3505320"/>
            <a:ext cx="2361960" cy="76176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41760" y="3884760"/>
            <a:ext cx="137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gi-win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057400"/>
            <a:ext cx="0" cy="2743200"/>
          </a:xfrm>
          <a:prstGeom prst="line">
            <a:avLst/>
          </a:prstGeom>
          <a:ln w="12600">
            <a:solidFill>
              <a:srgbClr val="fafd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46480" y="4494240"/>
            <a:ext cx="1127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74880" y="4494240"/>
            <a:ext cx="109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371600" y="3276720"/>
            <a:ext cx="190512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60680" y="3427560"/>
            <a:ext cx="120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’Reilly &amp;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ssoci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’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TP Server for Windows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’Reilly Originator of cgi-win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all footprint,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24600" y="2200320"/>
            <a:ext cx="3143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REF Tools’ Web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for Custom Web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Framework for Building Web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24320" y="2019240"/>
            <a:ext cx="4295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es Seaver</dc:creator>
  <dc:description/>
  <dc:language>en-US</dc:language>
  <cp:lastModifiedBy>Microsoft Office</cp:lastModifiedBy>
  <cp:revision>0</cp:revision>
  <dc:subject/>
  <dc:title>Construction Internet Applications With Delphi</dc:title>
</cp:coreProperties>
</file>